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4CD1-C2E9-4C00-B3A9-BBEA8D19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375-1D4B-4E94-8381-F29A1CC1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17CD-4AD2-4EDF-9469-4BC9F8D7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7C7-1E3A-4031-A585-1CB00110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97B2-1548-4AA6-BE34-BC0FE6ED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4056-0554-46E3-A025-1269CD05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476C-87D7-4B9B-9C5C-A9831C52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AA89-E523-467C-92DE-CAB4E2F0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9142-3D39-463C-B757-6ED7C4E6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2A41-2174-4A41-BEC9-EC6BDF1B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CF7D-389A-44F3-82E0-318BF8CE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0338-9337-4D48-8D5A-7692091F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854D-101D-4592-BEBC-E4BDDF26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C406-B395-43AC-B62F-CAA0BE3E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4785-D8A0-4482-92B6-DE3C0D87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8FFA-85EA-45CD-809E-4072B711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99CF-97AA-492F-B7C3-37218832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F2EE-3717-4798-A178-513E24EC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9CC-554F-4670-BD05-B01DCB99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2A86-4DC2-429A-A074-16A6B68D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3C36-28BC-484D-B1F2-8F6A3B3F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B47-6BAD-4465-AAB6-76D4DF53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ED43-6009-4C72-8856-19109C1D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EBC0-5FE0-4764-BFD9-33CF9520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2CE9-2D7D-4E76-AFDA-59C9CB1210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EB3E-D191-4FAF-8BF2-CB1E133049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oundbiteblog.com/wp-content/uploads/2007/08/money-bags.png&amp;imgrefurl=http://duanesm81.wordpress.com/&amp;h=640&amp;w=465&amp;sz=53&amp;hl=en&amp;start=13&amp;tbnid=-RB8nZkxsj2vgM:&amp;tbnh=137&amp;tbnw=100&amp;prev=/images%3Fq%3Dmoney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gnitesocialmedia.com/wp-content/uploads/2008/02/budget.jpg&amp;imgrefurl=http://www.ignitesocialmedia.com/category/news/&amp;h=364&amp;w=366&amp;sz=23&amp;hl=en&amp;start=14&amp;tbnid=8uZfOB88IoqRaM:&amp;tbnh=121&amp;tbnw=122&amp;prev=/images%3Fq%3Dbudget%26gbv%3D2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reativepro.com/files/story_images/042204_fg1.jpg&amp;imgrefurl=http://www.creativepro.com/article/heavy-metal-madness-put-a-happy-face&amp;h=315&amp;w=300&amp;sz=21&amp;hl=en&amp;start=4&amp;tbnid=7Pw6mT5uuZlQkM:&amp;tbnh=117&amp;tbnw=111&amp;prev=/images%3Fq%3Dhappy%2Bfaces%26gbv%3D2%26hl%3D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mediabistro.com/fishbowlLA/original/taxes.jpg&amp;imgrefurl=http://www.mediabistro.com/fishbowlla/general/april_15th_tax_day_82457.asp&amp;h=396&amp;w=318&amp;sz=46&amp;hl=en&amp;start=1&amp;tbnid=yBD4LQ7v4WXetM:&amp;tbnh=124&amp;tbnw=100&amp;prev=/images%3Fq%3Dtaxes%26gbv%3D2%26hl%3Den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blehelp.org/images/stacks%2520of%2520money.jpg&amp;imgrefurl=http://www.choiceusa.org/index.php%3Foption%3Dcom_jd-wp%26Itemid%3D80%26m%3D200712&amp;h=309&amp;w=339&amp;sz=15&amp;hl=en&amp;start=3&amp;tbnid=8kRIkifjsVYtYM:&amp;tbnh=108&amp;tbnw=119&amp;prev=/images%3Fq%3Dmoney%2B%26gbv%3D2%26hl%3D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soniaandtoby.com/images/equals.gif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Living the </a:t>
            </a: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L</a:t>
            </a:r>
            <a:r>
              <a:rPr b="1" lang="en-US" sz="4800" spc="-1" strike="noStrike">
                <a:solidFill>
                  <a:srgbClr val="3366ff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 Research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ing Your Pay Chec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371600" y="1828800"/>
          <a:ext cx="5869080" cy="441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828800"/>
                    <a:ext cx="586908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rds To Kno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t In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xed Exp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ble Exp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iodic Exp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5029200"/>
            <a:ext cx="11718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dget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spending plan for managing your money during a given period of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bout depriving yourself of your favorite th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’s about seeing your options and making smarter choices to get what you really wa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666880"/>
            <a:ext cx="25239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come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money you receive!!! Mainly from your pay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from your paycheck you pa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Incom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Incom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Security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r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358128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3581280"/>
            <a:ext cx="899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1828800"/>
            <a:ext cx="1057320" cy="1114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35480" y="3657600"/>
            <a:ext cx="18748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5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t Income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79246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deducted ta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mount of money you take home or depos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your starting point for budg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4565520"/>
            <a:ext cx="1895760" cy="1721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81280" y="4648320"/>
            <a:ext cx="1581120" cy="1447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5943600" y="4648320"/>
            <a:ext cx="17082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pe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what you spend money on such as needs and w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hree types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xed Expe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7543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nse that cost the same amount every tim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: Car lo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14600" y="44956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ariable Expe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uctuate in amount (chang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may not have control over the cost of the expen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: Gas/ Groc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riodic Expense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nses you don’t pay for every month, can be either variable or fixed expens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7:02:33Z</dcterms:created>
  <dc:creator>etracey</dc:creator>
  <dc:description/>
  <dc:language>en-US</dc:language>
  <cp:lastModifiedBy>etracey</cp:lastModifiedBy>
  <dcterms:modified xsi:type="dcterms:W3CDTF">2009-04-29T13:31:14Z</dcterms:modified>
  <cp:revision>11</cp:revision>
  <dc:subject/>
  <dc:title>Living the Life</dc:title>
</cp:coreProperties>
</file>